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BEF-2997-4E2D-8A9E-2DA35C56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EE2-0CB3-4970-A528-DBB311A2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302-18C0-4FA4-96AB-54C56AB6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347-AACB-420B-ACD7-F5A66811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7E3-2AB5-47DD-8262-4480E824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661-B78D-411C-A04A-89B64E9B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444-0B34-464F-9957-7E8C0469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C80-8514-4CE9-8E58-D255F9E5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FAC-5CCD-4176-A89F-FAFCF66F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30C-8EBD-4272-8FDF-9A7B9739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BEF-A51F-4781-B5E0-D1E3FF3B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436-F305-4C0F-B080-5B08C28F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6499-F7CB-4902-871F-52A7E2709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your GROUP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838080"/>
          <a:ext cx="8610480" cy="4077000"/>
        </p:xfrm>
        <a:graphic>
          <a:graphicData uri="http://schemas.openxmlformats.org/drawingml/2006/table">
            <a:tbl>
              <a:tblPr/>
              <a:tblGrid>
                <a:gridCol w="1722600"/>
                <a:gridCol w="1720800"/>
                <a:gridCol w="1724040"/>
                <a:gridCol w="1720800"/>
                <a:gridCol w="17222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i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g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i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r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l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o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ane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3" name="Line 60"/>
          <p:cNvSpPr/>
          <p:nvPr/>
        </p:nvSpPr>
        <p:spPr>
          <a:xfrm>
            <a:off x="22860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1, 4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143000" y="304920"/>
                <a:ext cx="52387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substitu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5, 6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2, 10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2, 0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1467000" y="304920"/>
                <a:ext cx="458928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graph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3, -5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143000" y="304920"/>
                <a:ext cx="52387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substitu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2, -1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-2, 0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3, 1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467000" y="304920"/>
                <a:ext cx="458928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graph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Text Box 6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-3, -9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143000" y="304920"/>
                <a:ext cx="52387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substitu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-3, 7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your GROUP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838080"/>
          <a:ext cx="8610480" cy="4077000"/>
        </p:xfrm>
        <a:graphic>
          <a:graphicData uri="http://schemas.openxmlformats.org/drawingml/2006/table">
            <a:tbl>
              <a:tblPr/>
              <a:tblGrid>
                <a:gridCol w="1722600"/>
                <a:gridCol w="1720800"/>
                <a:gridCol w="1724040"/>
                <a:gridCol w="1720800"/>
                <a:gridCol w="17222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ynth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t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ber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 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 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ne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u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Kat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y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c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rt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m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r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y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6" name="Line 47"/>
          <p:cNvSpPr/>
          <p:nvPr/>
        </p:nvSpPr>
        <p:spPr>
          <a:xfrm>
            <a:off x="22860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8, -2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143000" y="304920"/>
                <a:ext cx="52387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substitu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-2, 3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1467000" y="304920"/>
                <a:ext cx="458928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graph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4, -1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12, -1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143000" y="304920"/>
                <a:ext cx="52387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substitu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-3, -5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2, 1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533520" y="2438280"/>
            <a:ext cx="8001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 the winning team is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1219320" y="152280"/>
            <a:ext cx="6629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Impact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Impact"/>
              </a:rPr>
              <a:t>Ch.7 Mid-Te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Impact"/>
              </a:rPr>
              <a:t>Review She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8" name="WordArt 3"/>
          <p:cNvSpPr txBox="1"/>
          <p:nvPr/>
        </p:nvSpPr>
        <p:spPr>
          <a:xfrm>
            <a:off x="304920" y="3886200"/>
            <a:ext cx="8610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TEST OVER 7.1 - 7.3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Thursday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</p:spTree>
  </p:cSld>
  <p:transition spd="med"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your GROUP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3480" y="838080"/>
          <a:ext cx="9067680" cy="5070600"/>
        </p:xfrm>
        <a:graphic>
          <a:graphicData uri="http://schemas.openxmlformats.org/drawingml/2006/table">
            <a:tbl>
              <a:tblPr/>
              <a:tblGrid>
                <a:gridCol w="1566720"/>
                <a:gridCol w="1454040"/>
                <a:gridCol w="1319400"/>
                <a:gridCol w="1798560"/>
                <a:gridCol w="1417680"/>
                <a:gridCol w="151128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rr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hle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on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ura F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zerru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yshaw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m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illi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K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ura 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F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g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ct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 L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8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r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Angel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sh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9" name="Line 47"/>
          <p:cNvSpPr/>
          <p:nvPr/>
        </p:nvSpPr>
        <p:spPr>
          <a:xfrm>
            <a:off x="23760" y="1428840"/>
            <a:ext cx="9034560" cy="1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320" y="762120"/>
            <a:ext cx="87627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 by linear comb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762120" y="1371600"/>
                <a:ext cx="213336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346800" y="1393920"/>
                <a:ext cx="239544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WordArt 10"/>
          <p:cNvSpPr txBox="1"/>
          <p:nvPr/>
        </p:nvSpPr>
        <p:spPr>
          <a:xfrm>
            <a:off x="7505640" y="809640"/>
            <a:ext cx="133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(4, -7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2971800" y="1371600"/>
            <a:ext cx="133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(2, 1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2"/>
              <p:cNvSpPr txBox="1"/>
              <p:nvPr/>
            </p:nvSpPr>
            <p:spPr>
              <a:xfrm>
                <a:off x="685800" y="3429000"/>
                <a:ext cx="254484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WordArt 13"/>
          <p:cNvSpPr txBox="1"/>
          <p:nvPr/>
        </p:nvSpPr>
        <p:spPr>
          <a:xfrm>
            <a:off x="228600" y="4648320"/>
            <a:ext cx="13334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(-4, -7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4"/>
              <p:cNvSpPr txBox="1"/>
              <p:nvPr/>
            </p:nvSpPr>
            <p:spPr>
              <a:xfrm>
                <a:off x="6369120" y="3429000"/>
                <a:ext cx="239400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WordArt 15"/>
          <p:cNvSpPr txBox="1"/>
          <p:nvPr/>
        </p:nvSpPr>
        <p:spPr>
          <a:xfrm>
            <a:off x="6477120" y="4876920"/>
            <a:ext cx="13334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(-1, -2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over hw p. 405 9-42 by 3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 back &amp; Discuss Quiz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\\MCENOV2\VOL1\Installs\MSOffice\CD2\PFiles\MSOffice\Clipart\standard\stddir3\na01340_.wmf"/>
          <p:cNvPicPr/>
          <p:nvPr/>
        </p:nvPicPr>
        <p:blipFill>
          <a:blip r:embed="rId1"/>
          <a:stretch/>
        </p:blipFill>
        <p:spPr>
          <a:xfrm>
            <a:off x="7086600" y="87480"/>
            <a:ext cx="1963800" cy="143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\\MCENOV2\VOL1\Installs\MSOffice\CD2\PFiles\MSOffice\Clipart\homeanim\j0076208.gif"/>
          <p:cNvPicPr/>
          <p:nvPr/>
        </p:nvPicPr>
        <p:blipFill>
          <a:blip r:embed="rId2"/>
          <a:stretch/>
        </p:blipFill>
        <p:spPr>
          <a:xfrm>
            <a:off x="-54000" y="1600200"/>
            <a:ext cx="1197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380880" y="1600200"/>
            <a:ext cx="83822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Elephant"/>
              </a:rPr>
              <a:t>It's time for some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Elephant"/>
              <a:ea typeface="Elepha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Elephant"/>
              </a:rPr>
              <a:t>trashketball!!!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Elephant"/>
              <a:ea typeface="Elephant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 rot="5400000">
            <a:off x="-2552760" y="293364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ow to Pla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38080" y="23760"/>
            <a:ext cx="8305920" cy="67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ry Person in your group needs a piece of paper, a pencil, graph paper, and a calcul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ry Person in your group needs a letter, either T, R, A, S, or H.  Put that lette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your group number at the top of your paper (both sid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ry Person will write down the problem and solve it on their paper (you may get help from the members in your grou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ly the person whose letter I call will come up and show me their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get one point for a correct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correct, you can shoot for bonus points.  2 from the two point line or 3 from the three point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ye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993600" y="304920"/>
                <a:ext cx="55375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, 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 solution for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2:09:15Z</dcterms:created>
  <dc:creator>cee13931</dc:creator>
  <dc:description/>
  <dc:language>en-US</dc:language>
  <cp:lastModifiedBy>Owner</cp:lastModifiedBy>
  <dcterms:modified xsi:type="dcterms:W3CDTF">2012-06-05T15:29:26Z</dcterms:modified>
  <cp:revision>7</cp:revision>
  <dc:subject/>
  <dc:title>Warm-up</dc:title>
</cp:coreProperties>
</file>